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0A1E-E09D-442A-8543-845104D75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1914-ED6D-44B0-9FF1-C446A75B8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C311-A2A8-4EB6-95A8-1DD8E5F96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AF57-FCD5-40AF-BEE6-81BC8F646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31F5-1220-4449-B3C5-05622BA76D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9C07-18EA-4034-8EEA-9A3AED20F3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C372-468F-4F96-9737-0E09B31ECB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D24E-9297-4263-9DD7-73540D1A27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5786-EC3D-4A19-9500-D2BA8CDE8C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D919-45DD-4F55-B160-5E38D0AF23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51E8-20E2-4F5B-A7E2-D94964F7CA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39ED-8385-4582-9C4B-78A8293A3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7A53-B4AD-4197-A113-93E1AF2FB1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18C8-6AC8-4012-AF98-79E712C45B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8D01-63CC-4BE9-A1C4-D04AD1E9A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AD15-513F-4DE9-B6C3-5902302848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78BB-40AB-4B74-A569-D702360C2D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16E-C7FC-4703-8C0C-D375D75D16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01B-BB50-41EB-805D-D323D89DC1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7BA-F91B-45AE-9DAA-753883172E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7E0-DEB5-4117-85B3-C0676A0CB2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984-9B38-4355-84D4-57C2302C4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64B3-EFA1-4085-9A4E-A3721C662E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50A-F81A-4FA8-8C35-AF49ADAFA6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9F7-0101-4B0D-A25B-0DC2EB34D6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9B9-708A-4106-A9AD-C7123BBBC7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7D1-9718-4966-AD43-04A550CA17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D8D-5E90-4D39-8E80-F86AB6995E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8F6-C107-4FA0-97A9-642F42693C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054-734D-4D6D-8987-F12E647CCE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182E4-E908-406D-A2F0-82CA1C9B3E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9BA6C-4D41-4196-952D-D58189E970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A08F5-A2D9-4A8B-87C6-83F77791A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4EE2-6A60-46E1-A87E-485BA6B1FC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EB5B9-4297-4A18-A2BB-B87AC1FE5D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7E781-CBC9-411C-B1E3-89656CCF02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D5C5A-E3DF-4F4C-B3BC-3D37F4913D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82A50-5CE1-44B3-94E7-36AF696099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A59A9-5E35-4272-A287-0C505D9F1F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0381B-68AB-4FAC-9E07-E3F849398A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4A365-74A8-4C36-B7BC-80E2A6370F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5385C-A456-4CBF-B1CB-7E9AD056B3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6B5A3-F6C3-48D2-ABC3-398C617C88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7ED14-CBD6-4D59-864C-17BAA5B18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E8F0-E749-4317-A272-1C8E93A66A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00763-D769-4C46-A590-ECD646B6957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98D0-2F4A-41B1-A345-0DD78100DC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4FE49-7B0C-4A47-B74A-695368DE70A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25598-B8E9-4B70-97C9-DF407B44788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8FF64-BD72-45C1-9649-617A7720C7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D111B-A354-4F9E-886D-5C4D9510B16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F44D9-E1AE-4A84-B12F-DCF64D17DE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D4697-67C8-48DB-BB63-F8D749E949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4E2B7-577E-47FB-9C8B-BEA43BFC64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204A4-FE8B-42B1-ADF5-8FBD21B36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7358-0C73-4765-BBBF-BD44384B04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78E68-158C-4CDB-8562-BC8D060AC4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47EB-8D6A-4C82-AF01-4A8C7B5DCE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FF29-63AC-4B76-A236-37BA047479B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4359-DE6F-4412-B6D8-B4CDE5E797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7573-A3F4-4C74-9E06-1EEA536DF6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D3D5-EC04-421B-8455-F914C65EF8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7D28-547C-4522-9D04-9417ACE812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D80E-3B11-48E8-A2CE-368EDA8B8E6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2C43-3A38-4305-A26E-9A5E2D8665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5D74-DB4B-4C3D-8E29-B02DE7226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B931-F5AA-4AFC-800D-2CC5F50F8F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3DC7-424D-4D1F-ACE0-2EC78E2A78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555E-3B3E-49B5-A489-38926830C8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BA1F-1A59-4329-9DB5-AF8006A8C5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AB6D1-80BF-403A-844F-B6AAD1BED3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C8B19-7C02-442A-AF5D-A77AC255E0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C57E3-DBB2-489D-8B6C-86A6986877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FE87C5-B461-4C98-8415-65724241494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5418C-369E-4ED8-9C14-BB80AAA2AF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F6F84-0A89-42A0-96C9-FA8E0B8AF3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7439D7-4307-4C4C-AF8E-CDF5D430E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167E-DB74-407A-8401-5DF2B0BB4B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0A98AE-E65C-4A4A-BA40-C139E2F4CE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F0B30-67F0-412C-BC9E-DFF7372C04B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BF3F3-76B5-4D90-833B-D3AD2F2404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B1AD2-1A57-46D1-B51A-83A10630B9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AAA30-C3A0-4A82-AE60-F6ACEB1B6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116E-5C1A-4122-B438-381B1D680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812F-439B-4CA3-A7D6-D4297B2A36BC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610F-FDEB-46C6-B589-D7C9712A3A50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711B-3483-4063-8618-8724B1FF6BB3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9CCF-9ED2-46AE-96D5-A9327F0134D2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E7F-FA22-434A-9EB8-1A083B5CB214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6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BDD9-9240-4991-A9C4-2BBEB86B7D49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5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2016-DF60-4F83-BE5A-8551D3404B0B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theworldcafe.com/" TargetMode="External"/><Relationship Id="rId4" Type="http://schemas.openxmlformats.org/officeDocument/2006/relationships/hyperlink" Target="http://www.theworldcafe.com/" TargetMode="External"/><Relationship Id="rId5" Type="http://schemas.openxmlformats.org/officeDocument/2006/relationships/hyperlink" Target="http://www.if.ufrj.br/" TargetMode="External"/><Relationship Id="rId6" Type="http://schemas.openxmlformats.org/officeDocument/2006/relationships/hyperlink" Target="http://www.if.ufrj.br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Arial Black"/>
                <a:ea typeface="Arial Black"/>
              </a:rPr>
              <a:t>METODOLOGIAS ATIV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Acacia Zeneida Kuenz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Dra. em Educação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a76"/>
                </a:solidFill>
                <a:uFillTx/>
                <a:latin typeface="Lucida Sans Unicode"/>
              </a:rPr>
              <a:t>acaciak4@gmail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competênci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apacidade potencial para atuar em situações não previstas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m processos dinâmicos com base tecnologicamente sempre mais complex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a partir do conhecimento da totalidade do processo de trabalho, incluindo sua relação com os processos sociais e econômicos mais ampl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rês dimensões: técnica, cognitiva complexa, comportamental (fazer, trabalhar intelectualmente, desejar fazer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Que competências queremos desenvolv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específica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competências relativas ao saber fazer; técnic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cognitivas complexas</a:t>
            </a: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operações mentais utilizadas para estabelecer relações com e entre os objetos, situações, fenômenos e pessoas  que deseja conhecer; saber pensar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comportamentais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mbinam  comportamento, a cultura e a identidade,vontade,engajamento e motivação; desenvolvem-se nos espaços de interação e de trocas; querer faz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Aprendizagem</a:t>
            </a:r>
            <a:r>
              <a:rPr b="0" lang="en-US" sz="2400" spc="-1" strike="noStrike">
                <a:solidFill>
                  <a:srgbClr val="227a8f"/>
                </a:solidFill>
                <a:latin typeface="Arial Bold"/>
                <a:ea typeface="Arial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aluno aprende quando se relaciona com o conhecimento; protagonism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resultado de processos intencionais e sistematizados de construção de conhecimen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ocorre espontaneamente; precisa da mediação do professo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Métod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xtual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r teoria e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r parte e totalidad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disciplinar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v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r e reter a aprendizagem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tende ao Projeto Pedagógico das EJ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s metodologias ativas têm por objetivo levar o aluno ao protagonism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São suficiente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mo planejar uma aula usando metodologias ativ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(IN 01/2017 Enfa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ema: Fake new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Que problema da prática o curso pretende enfrenta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JUSTIFICA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ção  do problema da prática ou de desempenho existente ou que venha a existir, que justifica a oferta do curso; o texto deve ser objetivo, apontando o problema que se pretende resolver ou a prática que se pretende mudar com o cur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060560" y="398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7000"/>
          </a:bodyPr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eparação 1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r características e necessida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público-alvo;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Definir problema de realidade que se pretende enfrentar (justificativa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4880" indent="-2214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 Italic"/>
                <a:ea typeface="Arial Bold Italic"/>
              </a:rPr>
              <a:t>os jovens têm dificuldades para discernir notícias falsas das verdadeiras, e por essa razão divulgam fake new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eparação 2</a:t>
            </a:r>
            <a:r>
              <a:rPr b="0" lang="en-US" sz="3200" spc="-1" strike="noStrike">
                <a:solidFill>
                  <a:srgbClr val="008000"/>
                </a:solidFill>
                <a:latin typeface="Arial Bold"/>
                <a:ea typeface="Arial 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efinir as competências que serão   desenvolvidas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identificar fake News, usando as informações disponívei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 apresentar argumentos que explicitem  as consequências das fake news, e de sua divulg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 descrever as ações que devem realizadas quando receber ou tomar conhecimento de fake new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Qual a metodologia mais adequa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ensino que serão utilizadas, priorizando métodos at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ão selecionadas a partir das competências que se pretende desenvol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lic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s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igir decisõe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Arial Bold"/>
                <a:ea typeface="Arial Bold"/>
              </a:rPr>
              <a:t>Se eu sei como se conhece, sei como se ensina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  <a:ea typeface="Arial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-255600" algn="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Bold"/>
                <a:ea typeface="Arial Bold"/>
              </a:rPr>
              <a:t>Libâne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 como se conhec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Problematiz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resentar situações práticas de trabalho, estimuladoras do trabalho intelectual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presentar a fundamentação teóric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d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ponibilizando material variado para consul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cando fontes: livros, si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2000"/>
          </a:bodyPr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Propor atividade que leve o aluno ao protagonism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ráticas que estimulem a criatividade na busca de soluções originais e diversificadas que permitam o exercício da capacidade de decidir a partir da identificação de consequências possíveis que envolvam as dimensões cognitiva, ética e polí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riação da solução tendo como ponto de partida e  ponto de chegada a ação jurisdicional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Sistematiz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ização e sínte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A escolha da estratég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mpetências quero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m são meus alunos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nhecimentos prévios têm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a natureza do conteúd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tempo tenho disponíve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é o espaço físico/equipamentos disponíveis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experiência didática tenho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7a8f"/>
                </a:solidFill>
                <a:latin typeface="Arial Black"/>
                <a:ea typeface="Arial Black"/>
              </a:rPr>
              <a:t>Sugestõ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Método: problematização usando metodologias ativ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partir de uma situação problema já vivida pelo aluno (fake new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philipps 6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identificar situações q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grupo já vive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 partir de sua realidade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que já é conhecido); relato;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cochich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braimstorm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2000"/>
          </a:bodyPr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hilipps 6.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grupos de seis pessoas discutem o tema por 6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inutos; relatam as conclusõ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chich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dividir a turma em duplas, que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cochicham sobre o tema; relat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Braimsto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sugerir qualquer pensamento que vier à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ente sobre o tema; estimula a criatividade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em grup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9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539640" y="476280"/>
            <a:ext cx="8433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ＭＳ Ｐゴシック"/>
              </a:rPr>
              <a:t>Identificadas situações já vividas pelos aluno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conversa de rod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que razão as pessoas divulgam fake news? Quais as consequências dessa prática? (professor sistematiza no quadro); ou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gv-go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 participantes são divididos em dois grupos concêntricos; só o interno fala; o externo observa;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aquário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a cadeira do círculo interno fica vaga, podendo ser ocupada a qualquer momento por um participante do grupo externo que tenha uma contribuição a da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064360" cy="50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pic>
        <p:nvPicPr>
          <p:cNvPr id="466" name="Picture 7" descr=""/>
          <p:cNvPicPr/>
          <p:nvPr/>
        </p:nvPicPr>
        <p:blipFill>
          <a:blip r:embed="rId3"/>
          <a:stretch/>
        </p:blipFill>
        <p:spPr>
          <a:xfrm>
            <a:off x="1546200" y="260280"/>
            <a:ext cx="6481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403200" y="485640"/>
            <a:ext cx="82422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555480" y="638280"/>
            <a:ext cx="824256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040" tIns="0" bIns="0" anchor="t">
            <a:noAutofit/>
          </a:bodyPr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Desenvolviment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7a8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ＭＳ Ｐゴシック"/>
              </a:rPr>
              <a:t>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old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ＭＳ Ｐゴシック"/>
              </a:rPr>
              <a:t>. Etapa – apresentação da teoria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 que são fake news e su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quências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orque é difícil enfrentá-las ( pó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dade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omo identificá-las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omo se comportar em face das fa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exposição dialogada pelo prof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dequação 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guagem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sala de aula invertid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  <a:ea typeface="ヒラギノ角ゴ ProN W6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1936800" y="1449360"/>
            <a:ext cx="52704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Sala de aula invertid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odologia na qual os alunos estudam os temas em casa, antecipadamente, e trazem as dúvidas para discutir em sala, com os colegas e professo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protagonismo do aluno – (adequação dos texto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trabalho em grupo: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sca de exemplos ou vídeos de fake news na web, no processo político-eleitoral, e argumentar sobre sua intencionalidade  e prováveis consequências, com relato criativo em flipchart – mural;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odução de víde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equências das fake new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divide o grupo em 5 mesas, cada uma com  uma notícia e o grupo terá de descobrir é  falsa ou verdadeira, apresentando argumentos; os alunos rodam pelas cinco mesa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Café Diálogo 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fácil utilização para a criação de uma rede viva de diálogo colaborativo sobre perguntas relevantes a serviço de assuntos reais do dia- dia, sejam da vida ou do trabalho; permite a participação de públicos numeros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distribuem-se por mesas arrumadas como se fossem para um café, em número de 5 a 8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espaço de tempo, os participantes mudam de mesa, permanecendo um único membro, o anfitrião, ou coordenador (20 minuto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cada mesa há uma pergunta ou tema de discussão diferente e instigante; a qualidade das perguntas é fundam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rodada, o coordenador apresenta aos  novos participantes o que foi discutido pelo grupo anterior, que será o ponto de partida para a nova rodada; findo o tempo, os participantes trocam de mesa novamente, sempre buscando uma mesa por onde não tenha passado e se possível, novos parceiros (o grupo não se desloca como um todo; devem ser buscadas novas combinaçõe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rganizar papéis coloridos, lápis, canetinhas, flipchat, e estimular os participantes a rabiscar suas idéias; o coordenador sistematiza as idéias (notebook?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isponibilizar lanche, se possível nas mes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comunicação dos resultados pode ser em grande grupo, ou feita pelos relator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 docente faz a síntese f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ntrovérsia estruturada</a:t>
            </a: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disponibiliza uma fake new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ativa à política, e um grupo a defen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 outro acusa, levantando argument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os respectivos posicionamentos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;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 de caso</a:t>
            </a: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apresenta um texto com 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ato de uma situação verídica 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ctícia com questões para o gru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der; debate ao final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s de cas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os de situações ocorridas no mundo real, apresentadas a estudantes com a finalidade de ensinar, preparando-os para a prátic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volvem uma decisão, um desafio, uma oportunidade, um problema ou uma questão que um profissional tem que resolver em uma organiz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Redação das notas de Ensin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present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Objetiv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Questões para estudo: perguntas a responder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Referências básic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ainel Integrado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 primeira etapa cada grupo analisa se a notícia é falsa ou verdadeira, bem como a intencionalidade, as consequências e a conduta cabível; na segunda etapa os grupos são formados pelos números 1, 2 e sucessivamente, e cada aluno relata a conclusão do seu grupo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"/>
              <a:ea typeface="ヒラギノ角ゴ ProN W6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3"/>
          <a:stretch/>
        </p:blipFill>
        <p:spPr>
          <a:xfrm>
            <a:off x="1168560" y="1054080"/>
            <a:ext cx="680688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77724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Re-criando a realidade no pensa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ó se conhece aquilo que é objeto de nossa atividad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intelectual e prátic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 ser humano só conhece aquilo que é objeto de sua atividade, e conhece porque atua praticamente</a:t>
            </a:r>
            <a:r>
              <a:rPr b="0" lang="en-US" sz="2800" spc="-1" strike="noStrike">
                <a:solidFill>
                  <a:srgbClr val="008000"/>
                </a:solidFill>
                <a:latin typeface="Arial Bold"/>
                <a:ea typeface="Arial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Mapas conceitua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pas conceituais são diagramas indicando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relações entre concei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ou entre palavras que usamos para representar conceit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 são diagramas de significados, de relações significativas; de hierarquias conceituais, se for o cas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o mapeamento conceitual é uma técnica muito flexível e pode ser usada em diversas situações, para diferentes finalidades: técnica didática, recurso de aprendizagem, meio de avali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ign think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Processo crítico para criar novas soluçõ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ersão: conhecer o problema – entrevistas, dad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e e síntese:delineamento do problema a ser enfrent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ação: criação de soluçõ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tipação: testag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envovimento: implementaçã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4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síntese feita pelo profess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ontamento dos pontos relevante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omada das dúvidas, problemas de interpretação, controvérsia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8000"/>
          </a:bodyPr>
          <a:p>
            <a:pPr marL="46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stasiou, Lea F. Processo de ensinagem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dade. Joinville, Univille, 2010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an, José. Metodologias ativas para u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rendizagem mais profunda 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www2.eca.usp.br/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mor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unes, Celso. Manual de dinâmicas de grupo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trópolis,  Vozes. 8a. ed, 19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 www.theworldcafe.com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ira, Marco A. Mapas conceituais e aprendizag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gnificativa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www.if.ufrj.b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so Gomes  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http://celso-gomes.blogspot.com/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Desafios para 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  <a:ea typeface="Arial Bold"/>
              </a:rPr>
              <a:t>Motiv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ula sh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descer de tirolesa na sala de aul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Lucida Sans Unicode"/>
              </a:rPr>
              <a:t>O que move o aluno para o conheciment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 - para atingir finalidad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orça pulsional propulsora do  conhecimento: desejo, afeto, sentimentos, emoçõ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Lucida Sans Unicode"/>
              </a:rPr>
              <a:t>É pela motivação que o aluno deixa de ser espectador para ser protagonis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Lucida Sans Unicode"/>
              </a:rPr>
              <a:t>Desafio do profess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4427640" y="4365720"/>
            <a:ext cx="48564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020"/>
                </a:moveTo>
                <a:lnTo>
                  <a:pt x="5400" y="12020"/>
                </a:lnTo>
                <a:lnTo>
                  <a:pt x="5400" y="0"/>
                </a:lnTo>
                <a:lnTo>
                  <a:pt x="16200" y="0"/>
                </a:lnTo>
                <a:lnTo>
                  <a:pt x="16200" y="12020"/>
                </a:lnTo>
                <a:lnTo>
                  <a:pt x="21600" y="12020"/>
                </a:lnTo>
                <a:lnTo>
                  <a:pt x="10800" y="21600"/>
                </a:lnTo>
                <a:lnTo>
                  <a:pt x="0" y="12020"/>
                </a:lnTo>
                <a:close/>
                <a:moveTo>
                  <a:pt x="0" y="12020"/>
                </a:moveTo>
              </a:path>
            </a:pathLst>
          </a:custGeom>
          <a:gradFill rotWithShape="0">
            <a:gsLst>
              <a:gs pos="0">
                <a:srgbClr val="90e9ff"/>
              </a:gs>
              <a:gs pos="100000">
                <a:srgbClr val="17afd5"/>
              </a:gs>
            </a:gsLst>
            <a:lin ang="5400000"/>
          </a:gradFill>
          <a:ln w="9360">
            <a:solidFill>
              <a:srgbClr val="28a0be"/>
            </a:solidFill>
            <a:miter/>
          </a:ln>
          <a:effectLst>
            <a:outerShdw dist="255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afios para o doc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  <a:ea typeface="Arial Bold"/>
              </a:rPr>
              <a:t>Tirar o aluno da contemplação: levá-lo ao protagon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não é ativismo, fazer por fazer (grupos se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ntido, filmes sem discussão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criar situações significativa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doras, para que o aluno, ao s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lacionar com o conhecimento, faça nova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ínteses, descubra, cri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Lucida Sans Unicode"/>
              </a:rPr>
              <a:t>Como identificar o que motiva os alunos 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indo de sua realidade – imersão, entrevistas,   leituras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ndo  seus desejos e seus conhecimentos prévios; partindo de sua linguagem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               </a:t>
            </a:r>
            <a:r>
              <a:rPr b="0" lang="en-US" sz="2700" spc="-1" strike="noStrike">
                <a:solidFill>
                  <a:srgbClr val="227a8f"/>
                </a:solidFill>
                <a:latin typeface="ヒラギノ角ゴ ProN W6"/>
                <a:ea typeface="ヒラギノ角ゴ ProN W6"/>
              </a:rPr>
              <a:t>Metodologias ativ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acia</dc:creator>
  <dc:description/>
  <cp:keywords/>
  <dc:language>en-US</dc:language>
  <cp:lastModifiedBy>Acacia Zeneida Kuenzer</cp:lastModifiedBy>
  <dcterms:modified xsi:type="dcterms:W3CDTF">2019-09-06T02:46:12Z</dcterms:modified>
  <cp:revision>1</cp:revision>
  <dc:subject/>
  <dc:title>EDUCAÇÃO PROFISSIONAL, DESENVOLVIMENTO E INCLUSÃO SOCIAL</dc:title>
</cp:coreProperties>
</file>